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09920" y="3137040"/>
            <a:ext cx="524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9112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54108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, 2007, 2004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494400"/>
            <a:ext cx="93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3.1 - </a:t>
            </a:r>
            <a:fld id="{169B9A17-D3F0-4E10-B344-9032065F31E0}" type="slidenum"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07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Lecture Sl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4320" y="1739880"/>
            <a:ext cx="472428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6172200"/>
            <a:ext cx="11430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276120"/>
            <a:ext cx="6477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08660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easure of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at the center or middle of a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0840" y="276120"/>
            <a:ext cx="6477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rithmetic 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05120"/>
            <a:ext cx="7797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lnSpc>
                <a:spcPct val="90000"/>
              </a:lnSpc>
              <a:spcBef>
                <a:spcPts val="225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rithmetic Mean (Me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measure of center obtained by adding the values and dividing the total by the number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most people call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9000"/>
            <a:ext cx="7162560" cy="5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561680"/>
            <a:ext cx="8138880" cy="46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95000"/>
              </a:lnSpc>
              <a:spcBef>
                <a:spcPts val="3988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not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um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of a set of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ariabl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usually used to represent the individual data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present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umber of data values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a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amp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present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umber of data values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a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54920" y="258840"/>
            <a:ext cx="2237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61440" y="3424320"/>
            <a:ext cx="878220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µ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s pronounced ‘mu’ and denotes th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ean of all values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in a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po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701160" y="1655640"/>
            <a:ext cx="2687040" cy="1427040"/>
            <a:chOff x="3701160" y="1655640"/>
            <a:chExt cx="2687040" cy="1427040"/>
          </a:xfrm>
        </p:grpSpPr>
        <p:sp>
          <p:nvSpPr>
            <p:cNvPr id="99" name=""/>
            <p:cNvSpPr/>
            <p:nvPr/>
          </p:nvSpPr>
          <p:spPr>
            <a:xfrm>
              <a:off x="3701160" y="2023920"/>
              <a:ext cx="10609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22840" y="2190600"/>
              <a:ext cx="2984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4880" y="2397240"/>
              <a:ext cx="15433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56080" y="2390760"/>
              <a:ext cx="4924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42600" y="1655640"/>
              <a:ext cx="932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90640" y="1228680"/>
            <a:ext cx="80294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s pronounced ‘x-bar’ and denotes the mean of a set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3720" y="1033560"/>
            <a:ext cx="614160" cy="691920"/>
            <a:chOff x="513720" y="1033560"/>
            <a:chExt cx="614160" cy="691920"/>
          </a:xfrm>
        </p:grpSpPr>
        <p:sp>
          <p:nvSpPr>
            <p:cNvPr id="106" name=""/>
            <p:cNvSpPr/>
            <p:nvPr/>
          </p:nvSpPr>
          <p:spPr>
            <a:xfrm>
              <a:off x="513720" y="1033560"/>
              <a:ext cx="614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200" y="1330200"/>
              <a:ext cx="2048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698280" y="4290840"/>
            <a:ext cx="2518200" cy="1547640"/>
            <a:chOff x="3698280" y="4290840"/>
            <a:chExt cx="2518200" cy="1547640"/>
          </a:xfrm>
        </p:grpSpPr>
        <p:sp>
          <p:nvSpPr>
            <p:cNvPr id="109" name=""/>
            <p:cNvSpPr/>
            <p:nvPr/>
          </p:nvSpPr>
          <p:spPr>
            <a:xfrm>
              <a:off x="4870440" y="5076720"/>
              <a:ext cx="13460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9520" y="5146560"/>
              <a:ext cx="5853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8280" y="4719240"/>
              <a:ext cx="11019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µ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1120" y="4290840"/>
              <a:ext cx="932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1053720"/>
            <a:ext cx="8610480" cy="32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1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dvantages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s relatively reliable, means of samples drawn from the same population don’t vary as much as other measures of center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akes every data value into ac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440" y="422280"/>
            <a:ext cx="147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040" y="4381560"/>
            <a:ext cx="86108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514080" indent="-514080">
              <a:lnSpc>
                <a:spcPct val="110000"/>
              </a:lnSpc>
              <a:spcBef>
                <a:spcPts val="32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advantage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sensitive to every data value, one extreme value can affect it dramatically; is not a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sistan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easure of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07920" y="264960"/>
            <a:ext cx="1927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93760"/>
            <a:ext cx="8610480" cy="224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80000"/>
              </a:lnSpc>
              <a:spcBef>
                <a:spcPts val="36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edi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iddle valu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when the original data values are arranged in order of increasing (or decreasing) magnitu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3080" y="3705120"/>
            <a:ext cx="8800920" cy="820080"/>
            <a:chOff x="343080" y="3705120"/>
            <a:chExt cx="8800920" cy="820080"/>
          </a:xfrm>
        </p:grpSpPr>
        <p:sp>
          <p:nvSpPr>
            <p:cNvPr id="119" name=""/>
            <p:cNvSpPr/>
            <p:nvPr/>
          </p:nvSpPr>
          <p:spPr>
            <a:xfrm>
              <a:off x="343080" y="3705120"/>
              <a:ext cx="88009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00ae00"/>
                </a:buClr>
                <a:buSzPct val="13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often denoted by </a:t>
              </a:r>
              <a:r>
                <a:rPr b="1" i="1" lang="en-US" sz="32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  (pronounced ‘x-tilde’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9880" y="3809880"/>
              <a:ext cx="388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279f"/>
                  </a:solidFill>
                  <a:latin typeface="Arial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3880" y="4782960"/>
            <a:ext cx="87901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110000"/>
              </a:lnSpc>
              <a:spcBef>
                <a:spcPts val="1199"/>
              </a:spcBef>
              <a:buClr>
                <a:srgbClr val="00ae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not affected by an extreme value - is a resistant measure of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8280" y="3627360"/>
            <a:ext cx="522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9800" y="264960"/>
            <a:ext cx="4802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the Me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840" y="271764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f the number of data values is odd, the median is the number located in the exact middle of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5680" y="4635360"/>
            <a:ext cx="8305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f the number of data values is even, the median is found by computing the mean of the two middl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1193760"/>
            <a:ext cx="8026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rst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or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he values (arrange them in order), the follow one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28280" y="3627360"/>
            <a:ext cx="522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520" y="4114800"/>
            <a:ext cx="7619760" cy="24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2560" y="4243320"/>
            <a:ext cx="75758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5.40       1.10      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  0.48    1.10    0.6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 0.48      0.66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  1.10    1.10    5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order - odd number of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xact middle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EDIA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 0.7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0000" y="5105520"/>
            <a:ext cx="0" cy="739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4720" y="368280"/>
            <a:ext cx="7372440" cy="354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291960"/>
            <a:ext cx="67881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5.40       1.10      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0.48    1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 0.48      0.73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1.10    1.10    5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14720" y="3089160"/>
            <a:ext cx="146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0.73 + 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17600" y="3451320"/>
            <a:ext cx="14446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79200" y="3506760"/>
            <a:ext cx="323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9600" y="2197080"/>
            <a:ext cx="5772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order - even number of values – no exact mid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by two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6600" y="3186000"/>
            <a:ext cx="3364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EDIAN is 0.9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51440" y="1587240"/>
            <a:ext cx="644400" cy="605160"/>
            <a:chOff x="4051440" y="1587240"/>
            <a:chExt cx="644400" cy="605160"/>
          </a:xfrm>
        </p:grpSpPr>
        <p:sp>
          <p:nvSpPr>
            <p:cNvPr id="145" name=""/>
            <p:cNvSpPr/>
            <p:nvPr/>
          </p:nvSpPr>
          <p:spPr>
            <a:xfrm flipV="1">
              <a:off x="4683240" y="1587240"/>
              <a:ext cx="0" cy="327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64040" y="1587240"/>
              <a:ext cx="0" cy="327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051440" y="1901880"/>
              <a:ext cx="6444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73640" y="1914840"/>
              <a:ext cx="0" cy="277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20680" y="264960"/>
            <a:ext cx="1504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60240" y="1049040"/>
            <a:ext cx="8280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od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that occurs with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eatest frequ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set can have one, more than one, or no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5784840"/>
            <a:ext cx="78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ode is the only measure of central tendency that can be used with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min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880" y="3543480"/>
            <a:ext cx="7881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2057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mod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data values occur with the same greates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7400" indent="-205740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ultimodal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than two data values occur with the same greates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7400" indent="-205740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 Mode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data value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83520" y="2214720"/>
            <a:ext cx="431928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 5.40  1.10  0.42  0.73  0.48  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27  27  27  55  55  55  88  88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1   2   3   6   7   8   9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3360" y="2265480"/>
            <a:ext cx="5207040" cy="2241360"/>
          </a:xfrm>
          <a:prstGeom prst="rect">
            <a:avLst/>
          </a:prstGeom>
          <a:noFill/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2720" y="264960"/>
            <a:ext cx="4325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e -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3720" y="4546440"/>
            <a:ext cx="3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860800" y="2290320"/>
            <a:ext cx="3282840" cy="23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de is 1.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imodal -  27 &amp; 5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3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tistics for Describing, Exploring, and Comparing Dat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0" y="2475000"/>
            <a:ext cx="74898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3-1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view and 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Relative Standing and Box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51000" y="1727280"/>
            <a:ext cx="8308800" cy="26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idrange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value midway between the maximum and minimum values in the original data 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97960" y="277920"/>
            <a:ext cx="252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52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70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7960" y="4632480"/>
            <a:ext cx="8175600" cy="1122480"/>
            <a:chOff x="597960" y="4632480"/>
            <a:chExt cx="8175600" cy="1122480"/>
          </a:xfrm>
        </p:grpSpPr>
        <p:sp>
          <p:nvSpPr>
            <p:cNvPr id="163" name=""/>
            <p:cNvSpPr/>
            <p:nvPr/>
          </p:nvSpPr>
          <p:spPr>
            <a:xfrm>
              <a:off x="597960" y="4789440"/>
              <a:ext cx="29001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c0128"/>
                  </a:solidFill>
                  <a:latin typeface="Arial"/>
                </a:rPr>
                <a:t>Midrange</a:t>
              </a:r>
              <a:r>
                <a:rPr b="1" lang="en-US" sz="48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5000" y="4632480"/>
              <a:ext cx="50385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spcAft>
                  <a:spcPts val="2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 value + minimum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6920" y="5162400"/>
              <a:ext cx="49640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0520" y="533700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spcAft>
                  <a:spcPts val="2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51000" y="1434600"/>
            <a:ext cx="8308800" cy="17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nsitive to extremes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ecause it uses only the maximum and minimum values, so rarely u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1520" y="277920"/>
            <a:ext cx="2435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id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352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70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000" y="3340080"/>
            <a:ext cx="830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deem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2760" y="40132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ery easy to com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2760" y="462276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2000"/>
          </a:bodyPr>
          <a:p>
            <a:pPr marL="420840" indent="-42084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2) reinforces that there are several ways to define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2760" y="56386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3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voids confusion with me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29720" y="2785680"/>
            <a:ext cx="754236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arry one more decimal place than is present in the original set of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560" y="268200"/>
            <a:ext cx="783756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ound-off Rule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s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77520" y="3901680"/>
            <a:ext cx="84661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ink about the method used to collect the sample dat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4880" y="533520"/>
            <a:ext cx="4157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ritical Thi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" y="2184480"/>
            <a:ext cx="7623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ink about whether the results are reason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eyond the Basics of Measures of Cen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98640" y="2327040"/>
            <a:ext cx="7348320" cy="21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spcAft>
                <a:spcPts val="40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ssume that all sample values in each class are equal to the class midpoi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66000" y="254160"/>
            <a:ext cx="60166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 from a Frequen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37960" y="1967040"/>
            <a:ext cx="87235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500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use class midpoint of classes for variable </a:t>
            </a: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7440" y="254160"/>
            <a:ext cx="60166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 from a Frequen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8600" y="4518000"/>
            <a:ext cx="2527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48040" y="3121200"/>
            <a:ext cx="32479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08560" y="266760"/>
            <a:ext cx="3899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eighted 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497680" y="3906720"/>
            <a:ext cx="3461760" cy="1445760"/>
            <a:chOff x="2497680" y="3906720"/>
            <a:chExt cx="3461760" cy="1445760"/>
          </a:xfrm>
        </p:grpSpPr>
        <p:sp>
          <p:nvSpPr>
            <p:cNvPr id="200" name=""/>
            <p:cNvSpPr/>
            <p:nvPr/>
          </p:nvSpPr>
          <p:spPr>
            <a:xfrm>
              <a:off x="2497680" y="4255920"/>
              <a:ext cx="12009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6440" y="4460760"/>
              <a:ext cx="260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26080" y="4609800"/>
              <a:ext cx="2133360" cy="32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43000" y="4660560"/>
              <a:ext cx="554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w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5760" y="3906720"/>
              <a:ext cx="23731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(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279f"/>
                  </a:solidFill>
                  <a:latin typeface="Times New Roman"/>
                </a:rPr>
                <a:t>•</a:t>
              </a:r>
              <a:r>
                <a:rPr b="1" lang="en-US" sz="36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0200" y="4624200"/>
              <a:ext cx="5922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919080" y="1471680"/>
            <a:ext cx="7486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data values are assigned different weights, we can compute 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eighted mea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90520" y="887400"/>
            <a:ext cx="6723000" cy="5664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17520" y="254160"/>
            <a:ext cx="8486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est Measure of 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44400" y="1279440"/>
            <a:ext cx="84996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65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Symmetri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stribution of data is symmetric if 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ft half of its histogram is roughly a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irror image of its right ha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0000"/>
              </a:lnSpc>
              <a:spcBef>
                <a:spcPts val="165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Skew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stribution of data is skewed if it is not symmetric and extends more to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ne side than the 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38360" y="277920"/>
            <a:ext cx="5849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ed and Symmetr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762120" y="52387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by Tom Wegleitner, Centreville,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29280" y="5791320"/>
            <a:ext cx="684000" cy="83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102240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and Previ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44400" y="1279440"/>
            <a:ext cx="84996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5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kewed to the le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also called negatively skewed) have a longer left tail, mean and median are to the left of th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0000"/>
              </a:lnSpc>
              <a:spcBef>
                <a:spcPts val="15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kewed to the righ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also called positively skewed) have a longer right tail, mean and median are to the right of th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4080" y="277920"/>
            <a:ext cx="5227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ed Left or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8880" y="2803320"/>
            <a:ext cx="7547040" cy="18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e mean and median cannot always be used to identify the shape of the distribu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52240" y="760320"/>
            <a:ext cx="6213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pe of the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53680" y="272880"/>
            <a:ext cx="2633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9080" y="3603600"/>
            <a:ext cx="3125880" cy="2611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219640" y="3625920"/>
            <a:ext cx="308124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973080" y="1174680"/>
            <a:ext cx="5105520" cy="1954080"/>
            <a:chOff x="973080" y="1174680"/>
            <a:chExt cx="5105520" cy="1954080"/>
          </a:xfrm>
        </p:grpSpPr>
        <p:sp>
          <p:nvSpPr>
            <p:cNvPr id="231" name=""/>
            <p:cNvSpPr/>
            <p:nvPr/>
          </p:nvSpPr>
          <p:spPr>
            <a:xfrm>
              <a:off x="973080" y="1247760"/>
              <a:ext cx="237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071880" y="1174680"/>
              <a:ext cx="3006720" cy="195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06200" y="260280"/>
            <a:ext cx="1702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14300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section we have discu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057400"/>
            <a:ext cx="740088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ypes of 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78144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 from a f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2584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eighted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7060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est 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kew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10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Rectangle 6"/>
          <p:cNvSpPr/>
          <p:nvPr/>
        </p:nvSpPr>
        <p:spPr>
          <a:xfrm>
            <a:off x="1343160" y="1054080"/>
            <a:ext cx="65530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0304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0840" y="2475000"/>
            <a:ext cx="7165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23880" y="1927080"/>
            <a:ext cx="8153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cuss characteristics of variation, in particular, measures of variation, such as standard deviation, for analyz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23880" y="3965400"/>
            <a:ext cx="8153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ak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understanding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terpre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standard deviation a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Concepts of Measures of Vari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27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028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29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30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7400" y="215640"/>
            <a:ext cx="7162920" cy="73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923840"/>
            <a:ext cx="83185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ang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of a set of data values is the difference between the maximum data value and the minimum data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68360" y="4541760"/>
            <a:ext cx="854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ange = (maximum value) – (minimum valu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550800" y="5684760"/>
            <a:ext cx="8312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t is very sensitive to extreme values; therefore not as useful as other measures of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ound-Off Rule for Measures of Vari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88840" y="2071800"/>
            <a:ext cx="7467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rounding the value of a measure of variation, carry one more decimal place than is present in the original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" y="4917960"/>
            <a:ext cx="77342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ound only the final answer, not values in the middle of a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215640"/>
            <a:ext cx="71625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Text Box 1027"/>
          <p:cNvSpPr/>
          <p:nvPr/>
        </p:nvSpPr>
        <p:spPr>
          <a:xfrm>
            <a:off x="914400" y="223668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andard devi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f a set of sample values, denoted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is a measure of variation of values about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39800" y="979560"/>
            <a:ext cx="7902720" cy="52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tinguish between population and sample, parameter and statistic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ood sampling methods: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simple random sampl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collect in appropriate way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hapter 2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requency distribution: summarizing data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raphs designed to help understand data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enter, variation, distribution, outliers, changing characteristics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66760"/>
            <a:ext cx="8686800" cy="11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ample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viation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1716120" y="2590920"/>
            <a:ext cx="5778360" cy="2155680"/>
            <a:chOff x="1716120" y="2590920"/>
            <a:chExt cx="5778360" cy="2155680"/>
          </a:xfrm>
        </p:grpSpPr>
        <p:sp>
          <p:nvSpPr>
            <p:cNvPr id="272" name="Rectangle 4"/>
            <p:cNvSpPr/>
            <p:nvPr/>
          </p:nvSpPr>
          <p:spPr>
            <a:xfrm>
              <a:off x="171612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4311360" y="2898720"/>
              <a:ext cx="273744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– 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lang="en-US" sz="3600" spc="-1" strike="noStrike" baseline="56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4940280" y="3813120"/>
              <a:ext cx="1630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8"/>
            <p:cNvSpPr/>
            <p:nvPr/>
          </p:nvSpPr>
          <p:spPr>
            <a:xfrm>
              <a:off x="3362400" y="3459240"/>
              <a:ext cx="198360" cy="27468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"/>
            <p:cNvSpPr/>
            <p:nvPr/>
          </p:nvSpPr>
          <p:spPr>
            <a:xfrm>
              <a:off x="3560760" y="3444840"/>
              <a:ext cx="220680" cy="130176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0"/>
            <p:cNvSpPr/>
            <p:nvPr/>
          </p:nvSpPr>
          <p:spPr>
            <a:xfrm>
              <a:off x="3786120" y="2590920"/>
              <a:ext cx="376200" cy="214632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4167360" y="2590920"/>
              <a:ext cx="33271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186840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243320" y="3809880"/>
              <a:ext cx="30988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6237360" y="3124080"/>
              <a:ext cx="253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ample Standard Deviation (Shortcut Formula)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84" name="Group 16"/>
          <p:cNvGrpSpPr/>
          <p:nvPr/>
        </p:nvGrpSpPr>
        <p:grpSpPr>
          <a:xfrm>
            <a:off x="1154160" y="2622600"/>
            <a:ext cx="6769080" cy="2152440"/>
            <a:chOff x="1154160" y="2622600"/>
            <a:chExt cx="6769080" cy="2152440"/>
          </a:xfrm>
        </p:grpSpPr>
        <p:sp>
          <p:nvSpPr>
            <p:cNvPr id="285" name="Rectangle 4"/>
            <p:cNvSpPr/>
            <p:nvPr/>
          </p:nvSpPr>
          <p:spPr>
            <a:xfrm>
              <a:off x="1249200" y="317484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329360" y="3863880"/>
              <a:ext cx="264132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7"/>
            <p:cNvSpPr/>
            <p:nvPr/>
          </p:nvSpPr>
          <p:spPr>
            <a:xfrm>
              <a:off x="3529080" y="3841920"/>
              <a:ext cx="42037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2452680" y="3487680"/>
              <a:ext cx="190440" cy="30492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2652840" y="3473280"/>
              <a:ext cx="311040" cy="130176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2959200" y="2625840"/>
              <a:ext cx="507960" cy="214308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3468600" y="2622600"/>
              <a:ext cx="44546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1154160" y="323208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3200" spc="-1" strike="noStrike" baseline="74000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400" y="2968560"/>
              <a:ext cx="401328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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3600" spc="-1" strike="noStrike" baseline="50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lang="en-US" sz="54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lang="en-US" sz="3600" spc="-1" strike="noStrike" baseline="50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28600" y="1443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 -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mportan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80880" y="149868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standard deviation is a measure of variation of all values from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an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80880" y="253224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is usually 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80880" y="356544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can increase dramatically with the inclusion of one or more outliers (data values far away from all oth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80880" y="5372280"/>
            <a:ext cx="857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units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are the same as the units of the original data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228600" y="144360"/>
            <a:ext cx="86868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mparing Variation in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fferent S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736560" y="2087640"/>
            <a:ext cx="7886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t’s a good practice to compare two sample standard deviations only when the sample means are approximatel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825480" y="4297320"/>
            <a:ext cx="7886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comparing variation in samples with very different means, it is better to use the coefficient of variation, which is defined later in this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5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vi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316400" y="1989000"/>
            <a:ext cx="2611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05240" y="2827440"/>
            <a:ext cx="679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700320" y="1946160"/>
            <a:ext cx="280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600200" y="2284560"/>
            <a:ext cx="16444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701800" y="2854440"/>
            <a:ext cx="511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6983280" y="2251080"/>
            <a:ext cx="478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 flipV="1">
            <a:off x="4148280" y="3174840"/>
            <a:ext cx="203040" cy="81288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661280" y="2227320"/>
            <a:ext cx="268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Symbol"/>
                <a:ea typeface="Symbol"/>
              </a:rPr>
              <a:t></a:t>
            </a:r>
            <a:r>
              <a:rPr b="1" lang="en-US" sz="5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279f"/>
                </a:solidFill>
                <a:latin typeface="Arial"/>
              </a:rPr>
              <a:t>(</a:t>
            </a:r>
            <a:r>
              <a:rPr b="1" i="1" lang="en-US" sz="5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00279f"/>
                </a:solidFill>
                <a:latin typeface="Times New Roman"/>
              </a:rPr>
              <a:t> – </a:t>
            </a:r>
            <a:r>
              <a:rPr b="1" i="1" lang="en-US" sz="5400" spc="-1" strike="noStrike">
                <a:solidFill>
                  <a:srgbClr val="00279f"/>
                </a:solidFill>
                <a:latin typeface="Times New Roman"/>
              </a:rPr>
              <a:t>µ</a:t>
            </a:r>
            <a:r>
              <a:rPr b="0" lang="en-US" sz="5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4745160" y="3130560"/>
            <a:ext cx="2468520" cy="144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587920" y="3127320"/>
            <a:ext cx="676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79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4"/>
          <p:cNvSpPr/>
          <p:nvPr/>
        </p:nvSpPr>
        <p:spPr>
          <a:xfrm>
            <a:off x="4351320" y="1905120"/>
            <a:ext cx="453960" cy="2082600"/>
          </a:xfrm>
          <a:prstGeom prst="pie">
            <a:avLst/>
          </a:prstGeom>
          <a:noFill/>
          <a:ln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4795920" y="1930320"/>
            <a:ext cx="2539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6"/>
          <p:cNvSpPr/>
          <p:nvPr/>
        </p:nvSpPr>
        <p:spPr>
          <a:xfrm>
            <a:off x="4005360" y="3178080"/>
            <a:ext cx="137880" cy="212760"/>
          </a:xfrm>
          <a:prstGeom prst="pie">
            <a:avLst/>
          </a:prstGeom>
          <a:noFill/>
          <a:ln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983960" y="2584440"/>
            <a:ext cx="1642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14400" y="4724280"/>
            <a:ext cx="7558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is formula is similar to the previous formula, but instead, the population mean and population size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52600" y="5127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opulation variance: </a:t>
            </a:r>
            <a:r>
              <a:rPr b="1" i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- Square of the population standard deviation </a:t>
            </a:r>
            <a:r>
              <a:rPr b="1" i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Varianc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533520" y="16257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of a set of values is a measure of variation equal to the square of the standard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77800" y="354492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ample variance: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- Square of the sample standard deviation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nbiased Estimator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047600" y="2058840"/>
            <a:ext cx="7378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sample varianc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s an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biased estimat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of the population varianc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ich means values of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end to target the value of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nstead of systematically tending to overestimate or underestimat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21708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Variance - Not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560" y="1951200"/>
            <a:ext cx="793440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6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opulation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opulation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686040" y="3227400"/>
            <a:ext cx="3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eyond the Basics of Measures of Vari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27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8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29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0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318960" y="268200"/>
            <a:ext cx="8461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787320" y="1994040"/>
            <a:ext cx="766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based on the principle that for many data sets, the vast majority (such as 95%) of sample values lie within two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39800" y="1779480"/>
            <a:ext cx="7902720" cy="40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mportant Statistic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5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, median, standard deviation, vari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derstanding and Interpreting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se important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26"/>
          <p:cNvSpPr/>
          <p:nvPr/>
        </p:nvSpPr>
        <p:spPr>
          <a:xfrm>
            <a:off x="318960" y="268200"/>
            <a:ext cx="84614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 for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terpreting a Known Value of the  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27"/>
          <p:cNvSpPr/>
          <p:nvPr/>
        </p:nvSpPr>
        <p:spPr>
          <a:xfrm>
            <a:off x="482760" y="2362320"/>
            <a:ext cx="850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formally define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usu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 values in a data set to be those that are typical and not too extreme. Find rough estimates of the minimum and maximum “usual” sample value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028"/>
          <p:cNvGrpSpPr/>
          <p:nvPr/>
        </p:nvGrpSpPr>
        <p:grpSpPr>
          <a:xfrm>
            <a:off x="247680" y="4348080"/>
            <a:ext cx="8896320" cy="527400"/>
            <a:chOff x="247680" y="4348080"/>
            <a:chExt cx="8896320" cy="527400"/>
          </a:xfrm>
        </p:grpSpPr>
        <p:sp>
          <p:nvSpPr>
            <p:cNvPr id="346" name="Text Box 1029"/>
            <p:cNvSpPr/>
            <p:nvPr/>
          </p:nvSpPr>
          <p:spPr>
            <a:xfrm>
              <a:off x="247680" y="4425840"/>
              <a:ext cx="8896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nimum “usual” value     (mean) – 2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(standard dev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030"/>
            <p:cNvSpPr/>
            <p:nvPr/>
          </p:nvSpPr>
          <p:spPr>
            <a:xfrm>
              <a:off x="3650760" y="4348080"/>
              <a:ext cx="4723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1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1031"/>
          <p:cNvGrpSpPr/>
          <p:nvPr/>
        </p:nvGrpSpPr>
        <p:grpSpPr>
          <a:xfrm>
            <a:off x="247680" y="5345280"/>
            <a:ext cx="8896320" cy="829800"/>
            <a:chOff x="247680" y="5345280"/>
            <a:chExt cx="8896320" cy="829800"/>
          </a:xfrm>
        </p:grpSpPr>
        <p:sp>
          <p:nvSpPr>
            <p:cNvPr id="349" name="Text Box 1032"/>
            <p:cNvSpPr/>
            <p:nvPr/>
          </p:nvSpPr>
          <p:spPr>
            <a:xfrm>
              <a:off x="247680" y="5423040"/>
              <a:ext cx="88963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 “usual” value     (mean) + 2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(standard dev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033"/>
            <p:cNvSpPr/>
            <p:nvPr/>
          </p:nvSpPr>
          <p:spPr>
            <a:xfrm>
              <a:off x="3688920" y="5345280"/>
              <a:ext cx="4723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1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7840" y="268200"/>
            <a:ext cx="87566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 for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stimating a Value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79640" y="2355840"/>
            <a:ext cx="7696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o roughly estimate the standard deviation from a collection of known sample data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ange = (maximum value) – (minimum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3517200" y="4054320"/>
            <a:ext cx="2075400" cy="1220040"/>
            <a:chOff x="3517200" y="4054320"/>
            <a:chExt cx="2075400" cy="1220040"/>
          </a:xfrm>
        </p:grpSpPr>
        <p:sp>
          <p:nvSpPr>
            <p:cNvPr id="355" name="Rectangle 6"/>
            <p:cNvSpPr/>
            <p:nvPr/>
          </p:nvSpPr>
          <p:spPr>
            <a:xfrm>
              <a:off x="4304880" y="4054320"/>
              <a:ext cx="128772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>
              <a:off x="4406760" y="4603680"/>
              <a:ext cx="1117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517200" y="4316400"/>
              <a:ext cx="842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8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026"/>
          <p:cNvSpPr/>
          <p:nvPr/>
        </p:nvSpPr>
        <p:spPr>
          <a:xfrm>
            <a:off x="177840" y="268200"/>
            <a:ext cx="8756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27"/>
          <p:cNvSpPr/>
          <p:nvPr/>
        </p:nvSpPr>
        <p:spPr>
          <a:xfrm>
            <a:off x="685800" y="1771560"/>
            <a:ext cx="8089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easures the variation among data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lues close together have a small standard deviation, but values with much more variation have a larger 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as the same units of measurement as the origi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77840" y="268200"/>
            <a:ext cx="8756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85800" y="1771560"/>
            <a:ext cx="80899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many data sets, a value i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unusu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f it differs from the mean by more than two standard d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are standard deviations of two different data sets only if the they use the same scale and units, and they have means that are approximate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945360" y="266760"/>
            <a:ext cx="72910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mpirical (or 68-95-99.7)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438120" y="1276200"/>
            <a:ext cx="8381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ata sets having a distribution that is approximately bell shaped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the following properties app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58720" y="3067200"/>
            <a:ext cx="809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68% of all values fall within 1 standard deviation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84280" y="4264200"/>
            <a:ext cx="8096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95% of all values fall within 2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58720" y="5410080"/>
            <a:ext cx="809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99.7% of all values fall within 3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2197440" y="254160"/>
            <a:ext cx="4750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29" descr="2_13_1"/>
          <p:cNvPicPr/>
          <p:nvPr/>
        </p:nvPicPr>
        <p:blipFill>
          <a:blip r:embed="rId1"/>
          <a:stretch/>
        </p:blipFill>
        <p:spPr>
          <a:xfrm>
            <a:off x="851040" y="2674800"/>
            <a:ext cx="744048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197440" y="254160"/>
            <a:ext cx="4750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9" descr="2_13_2"/>
          <p:cNvPicPr/>
          <p:nvPr/>
        </p:nvPicPr>
        <p:blipFill>
          <a:blip r:embed="rId1"/>
          <a:stretch/>
        </p:blipFill>
        <p:spPr>
          <a:xfrm>
            <a:off x="851040" y="2044800"/>
            <a:ext cx="74404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2197440" y="254160"/>
            <a:ext cx="475056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6" descr="2_13_3"/>
          <p:cNvPicPr/>
          <p:nvPr/>
        </p:nvPicPr>
        <p:blipFill>
          <a:blip r:embed="rId1"/>
          <a:stretch/>
        </p:blipFill>
        <p:spPr>
          <a:xfrm>
            <a:off x="838080" y="987480"/>
            <a:ext cx="745992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240840"/>
            <a:ext cx="71625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hebyshev’s Theorem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47640" y="1136520"/>
            <a:ext cx="8077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proportion (or fraction) of any set of data lying within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standard deviations of the mean is always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t leas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–1/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her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s any positive number greater tha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66720" y="3581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= 2, at least 3/4 (or 75%) of all values lie within 2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92280" y="51055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= 3, at least 8/9 (or 89%) of all values lie within 3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966960" y="534960"/>
            <a:ext cx="7162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tionale for us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– 1 versus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85800" y="1450800"/>
            <a:ext cx="779148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re are onl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independent values. With a given mean, onl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values can be freely assigned any number before the last value is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viding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yields better results than dividing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 It cause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o target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whereas division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cause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o underestimat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39800" y="1385640"/>
            <a:ext cx="7902720" cy="49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criptive Statistic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5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chapter we’ll learn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ummarize o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scribe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importan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racteristics of a known set of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erential Statistics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later chapters we’ll learn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se sample data to ma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ferences or generaliz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bout a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7000" y="228600"/>
            <a:ext cx="727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efficient of Var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12880" y="1403280"/>
            <a:ext cx="750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efficient of vari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o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V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) for a set of nonnegative sample or population data, expressed as a percent, describes the standard deviation relative to the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735200" y="331776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5773680" y="3317760"/>
            <a:ext cx="188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8"/>
          <p:cNvGrpSpPr/>
          <p:nvPr/>
        </p:nvGrpSpPr>
        <p:grpSpPr>
          <a:xfrm>
            <a:off x="1079640" y="4165560"/>
            <a:ext cx="2666160" cy="1081080"/>
            <a:chOff x="1079640" y="4165560"/>
            <a:chExt cx="2666160" cy="1081080"/>
          </a:xfrm>
        </p:grpSpPr>
        <p:sp>
          <p:nvSpPr>
            <p:cNvPr id="393" name="Rectangle 37"/>
            <p:cNvSpPr/>
            <p:nvPr/>
          </p:nvSpPr>
          <p:spPr>
            <a:xfrm>
              <a:off x="2067840" y="4221000"/>
              <a:ext cx="2048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279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>
              <a:off x="2070000" y="4605480"/>
              <a:ext cx="1000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1079640" y="4432320"/>
              <a:ext cx="895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CV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AutoShape 31"/>
            <p:cNvSpPr/>
            <p:nvPr/>
          </p:nvSpPr>
          <p:spPr>
            <a:xfrm>
              <a:off x="1343160" y="4165560"/>
              <a:ext cx="1755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066760" y="4681440"/>
              <a:ext cx="216000" cy="1800"/>
            </a:xfrm>
            <a:prstGeom prst="line">
              <a:avLst/>
            </a:prstGeom>
            <a:ln w="20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>
              <a:off x="2036880" y="4622760"/>
              <a:ext cx="277560" cy="1800"/>
            </a:xfrm>
            <a:prstGeom prst="line">
              <a:avLst/>
            </a:prstGeom>
            <a:ln w="20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35"/>
            <p:cNvSpPr/>
            <p:nvPr/>
          </p:nvSpPr>
          <p:spPr>
            <a:xfrm>
              <a:off x="2450880" y="4340160"/>
              <a:ext cx="168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6"/>
            <p:cNvSpPr/>
            <p:nvPr/>
          </p:nvSpPr>
          <p:spPr>
            <a:xfrm>
              <a:off x="2707200" y="4356000"/>
              <a:ext cx="10386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100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49"/>
          <p:cNvGrpSpPr/>
          <p:nvPr/>
        </p:nvGrpSpPr>
        <p:grpSpPr>
          <a:xfrm>
            <a:off x="5407200" y="4062240"/>
            <a:ext cx="2627640" cy="1043280"/>
            <a:chOff x="5407200" y="4062240"/>
            <a:chExt cx="2627640" cy="1043280"/>
          </a:xfrm>
        </p:grpSpPr>
        <p:sp>
          <p:nvSpPr>
            <p:cNvPr id="402" name="Rectangle 44"/>
            <p:cNvSpPr/>
            <p:nvPr/>
          </p:nvSpPr>
          <p:spPr>
            <a:xfrm>
              <a:off x="6461280" y="4587840"/>
              <a:ext cx="2124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5407200" y="4379760"/>
              <a:ext cx="876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CV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40"/>
            <p:cNvSpPr/>
            <p:nvPr/>
          </p:nvSpPr>
          <p:spPr>
            <a:xfrm>
              <a:off x="6359400" y="4081320"/>
              <a:ext cx="16430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6421320" y="4578480"/>
              <a:ext cx="290520" cy="144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3"/>
            <p:cNvSpPr/>
            <p:nvPr/>
          </p:nvSpPr>
          <p:spPr>
            <a:xfrm>
              <a:off x="6447960" y="4062240"/>
              <a:ext cx="2232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5"/>
            <p:cNvSpPr/>
            <p:nvPr/>
          </p:nvSpPr>
          <p:spPr>
            <a:xfrm>
              <a:off x="6893280" y="4295880"/>
              <a:ext cx="153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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6"/>
            <p:cNvSpPr/>
            <p:nvPr/>
          </p:nvSpPr>
          <p:spPr>
            <a:xfrm>
              <a:off x="7089120" y="4332240"/>
              <a:ext cx="945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279f"/>
                  </a:solidFill>
                  <a:latin typeface="Arial"/>
                </a:rPr>
                <a:t>100%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16000"/>
            <a:ext cx="785808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84360" y="139860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 this section we have look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15960" y="206532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15960" y="2610000"/>
            <a:ext cx="8134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ndard deviation of a sample and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615960" y="358632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riance of a sample and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628560" y="569268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efficient of variation (C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15960" y="407340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ange rule of 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28560" y="461808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iric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28560" y="516420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hebyshev’s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1295280" y="1006560"/>
            <a:ext cx="70866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Relative Standing and Box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932200" y="276120"/>
            <a:ext cx="3279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3040" y="1147680"/>
            <a:ext cx="80406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is section introduces measures of relative standing, which are numbers showing the location of data values relative to the other values within a data set. They can be used to compare values from different data sets, or to compare values within the same data set.  The most important concept is the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score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 We will also discuss percentiles and quartiles, as well as a new statistical graph called the boxp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of </a:t>
            </a:r>
            <a:r>
              <a:rPr b="1" i="1" lang="en-US" sz="40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 Scores, Percentiles, Quartiles, and Boxplo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84040" y="169236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  Score</a:t>
            </a: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or standardized val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spcAft>
                <a:spcPts val="28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e number of standard deviations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at a given value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33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is above or below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e mea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55920" y="417600"/>
            <a:ext cx="4002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72640" y="276120"/>
            <a:ext cx="1985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Z s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96520" y="19051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1800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ampl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11680" y="19051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800"/>
              </a:spcBef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168880" y="3316320"/>
            <a:ext cx="2819160" cy="1342800"/>
            <a:chOff x="5168880" y="3316320"/>
            <a:chExt cx="2819160" cy="1342800"/>
          </a:xfrm>
        </p:grpSpPr>
        <p:sp>
          <p:nvSpPr>
            <p:cNvPr id="436" name=""/>
            <p:cNvSpPr/>
            <p:nvPr/>
          </p:nvSpPr>
          <p:spPr>
            <a:xfrm>
              <a:off x="5970600" y="3316320"/>
              <a:ext cx="15987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4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x </a:t>
              </a:r>
              <a:r>
                <a:rPr b="1" lang="en-US" sz="48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µ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168880" y="3632400"/>
              <a:ext cx="2819160" cy="1026720"/>
              <a:chOff x="5168880" y="3632400"/>
              <a:chExt cx="2819160" cy="1026720"/>
            </a:xfrm>
          </p:grpSpPr>
          <p:sp>
            <p:nvSpPr>
              <p:cNvPr id="438" name=""/>
              <p:cNvSpPr/>
              <p:nvPr/>
            </p:nvSpPr>
            <p:spPr>
              <a:xfrm>
                <a:off x="5168880" y="3632400"/>
                <a:ext cx="28191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90000"/>
                  </a:lnSpc>
                  <a:spcBef>
                    <a:spcPts val="1650"/>
                  </a:spcBef>
                  <a:spcAft>
                    <a:spcPts val="38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279f"/>
                    </a:solidFill>
                    <a:latin typeface="Arial"/>
                  </a:rPr>
                  <a:t>z</a:t>
                </a:r>
                <a:r>
                  <a:rPr b="1" lang="en-US" sz="4400" spc="-1" strike="noStrike">
                    <a:solidFill>
                      <a:srgbClr val="00279f"/>
                    </a:solidFill>
                    <a:latin typeface="Arial"/>
                  </a:rPr>
                  <a:t> =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48160" y="4013280"/>
                <a:ext cx="111780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40040" y="3967200"/>
                <a:ext cx="51840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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89440" y="3895920"/>
                <a:ext cx="511200" cy="69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635040" y="5251320"/>
            <a:ext cx="7905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und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cores to 2 decimal pl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6080" y="262080"/>
            <a:ext cx="8645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s of Position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25480" y="3354480"/>
            <a:ext cx="2819520" cy="1266840"/>
            <a:chOff x="825480" y="3354480"/>
            <a:chExt cx="2819520" cy="1266840"/>
          </a:xfrm>
        </p:grpSpPr>
        <p:sp>
          <p:nvSpPr>
            <p:cNvPr id="445" name=""/>
            <p:cNvSpPr/>
            <p:nvPr/>
          </p:nvSpPr>
          <p:spPr>
            <a:xfrm>
              <a:off x="825480" y="3670560"/>
              <a:ext cx="2819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650"/>
                </a:spcBef>
                <a:spcAft>
                  <a:spcPts val="38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Arial"/>
                </a:rPr>
                <a:t>z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3240" y="3354480"/>
              <a:ext cx="14007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4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x </a:t>
              </a:r>
              <a:r>
                <a:rPr b="1" lang="en-US" sz="48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3975480"/>
              <a:ext cx="111780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4480" y="3929400"/>
              <a:ext cx="4924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Arial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03680" y="3548160"/>
              <a:ext cx="280800" cy="5040"/>
            </a:xfrm>
            <a:custGeom>
              <a:avLst/>
              <a:gdLst/>
              <a:ahLst/>
              <a:rect l="l" t="t" r="r" b="b"/>
              <a:pathLst>
                <a:path w="177" h="3">
                  <a:moveTo>
                    <a:pt x="0" y="3"/>
                  </a:moveTo>
                  <a:lnTo>
                    <a:pt x="177" y="0"/>
                  </a:lnTo>
                </a:path>
              </a:pathLst>
            </a:custGeom>
            <a:noFill/>
            <a:ln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28680" y="187200"/>
            <a:ext cx="5972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19880" y="266760"/>
            <a:ext cx="52851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terpret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" y="3683160"/>
            <a:ext cx="8153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henever a value is less than the mean, its corresponding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rdinary values:     –2 ≤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≤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usual Values:     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&lt; –2  or 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&g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36680" y="1650960"/>
            <a:ext cx="82818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92280" y="189000"/>
            <a:ext cx="77724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ercen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4800" y="2101680"/>
            <a:ext cx="78325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re measures of location. There are 99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ercentile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noted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. . .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99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hich divide a set of data into 100 groups with about 1% of the values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90480" y="210960"/>
            <a:ext cx="7772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the Percent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f a Data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92040" y="2540160"/>
            <a:ext cx="8375760" cy="1015560"/>
            <a:chOff x="392040" y="2540160"/>
            <a:chExt cx="8375760" cy="1015560"/>
          </a:xfrm>
        </p:grpSpPr>
        <p:sp>
          <p:nvSpPr>
            <p:cNvPr id="458" name=""/>
            <p:cNvSpPr/>
            <p:nvPr/>
          </p:nvSpPr>
          <p:spPr>
            <a:xfrm>
              <a:off x="392040" y="2803680"/>
              <a:ext cx="8375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Percentile of value </a:t>
              </a:r>
              <a:r>
                <a:rPr b="1" i="1" lang="en-US" sz="2300" spc="-1" strike="noStrike">
                  <a:solidFill>
                    <a:srgbClr val="00279f"/>
                  </a:solidFill>
                  <a:latin typeface="Arial"/>
                </a:rPr>
                <a:t>x </a:t>
              </a: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</a:t>
              </a: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•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1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15560" y="2540160"/>
              <a:ext cx="4195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number of values less than </a:t>
              </a:r>
              <a:r>
                <a:rPr b="1" i="1" lang="en-US" sz="23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25680" y="3116520"/>
              <a:ext cx="33012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total number of valu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6760" y="3022920"/>
              <a:ext cx="40543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1295280" y="102240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359160" y="2387520"/>
            <a:ext cx="57848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otal number of values in 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ercentile being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ocator that giv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of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 percen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93640" y="3219480"/>
            <a:ext cx="2187000" cy="1067400"/>
            <a:chOff x="593640" y="3219480"/>
            <a:chExt cx="2187000" cy="1067400"/>
          </a:xfrm>
        </p:grpSpPr>
        <p:sp>
          <p:nvSpPr>
            <p:cNvPr id="464" name=""/>
            <p:cNvSpPr/>
            <p:nvPr/>
          </p:nvSpPr>
          <p:spPr>
            <a:xfrm>
              <a:off x="593640" y="3456000"/>
              <a:ext cx="218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L =        </a:t>
              </a: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• </a:t>
              </a: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09560" y="3219480"/>
              <a:ext cx="41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49080" y="3800520"/>
              <a:ext cx="584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90400" y="3832200"/>
              <a:ext cx="70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990720" y="2109960"/>
            <a:ext cx="340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1960" y="254160"/>
            <a:ext cx="85647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nverting from the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 Percentile to the Corresponding Data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71600" y="76320"/>
            <a:ext cx="4343400" cy="6502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403360" y="190440"/>
            <a:ext cx="657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nverting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 Percentile to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rresponding Data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9320" y="146160"/>
            <a:ext cx="77724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760" y="2571840"/>
            <a:ext cx="8877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2920" y="2806560"/>
            <a:ext cx="798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First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25% of sorted values from the top 7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9960" y="3919680"/>
            <a:ext cx="7981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Second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ame as the median;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50% of sorted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values from the top 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9960" y="5454720"/>
            <a:ext cx="798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Third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75% of sorted values from the top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7040" y="1231920"/>
            <a:ext cx="79819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re measures of location, denoted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which divide a set of data into four groups with about 25% of the values in each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52280" y="15112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, 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, 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v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ank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cores into four equal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9320" y="12060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6280" y="4230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869840" y="3471840"/>
            <a:ext cx="5412600" cy="1815120"/>
            <a:chOff x="1869840" y="3471840"/>
            <a:chExt cx="5412600" cy="1815120"/>
          </a:xfrm>
        </p:grpSpPr>
        <p:sp>
          <p:nvSpPr>
            <p:cNvPr id="482" name=""/>
            <p:cNvSpPr/>
            <p:nvPr/>
          </p:nvSpPr>
          <p:spPr>
            <a:xfrm>
              <a:off x="2768400" y="3949560"/>
              <a:ext cx="35366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5800" y="375264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320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464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608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1800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9960" y="347184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63440" y="349092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6920" y="349092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35000" y="351000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63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519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75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69840" y="4303800"/>
              <a:ext cx="13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in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83480" y="4303800"/>
              <a:ext cx="139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ax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92120" y="4951440"/>
              <a:ext cx="11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edi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58720" y="1892160"/>
            <a:ext cx="6267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8520" y="1676520"/>
            <a:ext cx="867312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801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Interquartile Range (or IQR): 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–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 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200" y="4933800"/>
            <a:ext cx="79038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10 - 90 Percentile Range: 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90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00600" y="2413080"/>
            <a:ext cx="7947720" cy="1392480"/>
            <a:chOff x="300600" y="2413080"/>
            <a:chExt cx="7947720" cy="1392480"/>
          </a:xfrm>
        </p:grpSpPr>
        <p:sp>
          <p:nvSpPr>
            <p:cNvPr id="502" name=""/>
            <p:cNvSpPr/>
            <p:nvPr/>
          </p:nvSpPr>
          <p:spPr>
            <a:xfrm>
              <a:off x="300600" y="2724120"/>
              <a:ext cx="62884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349"/>
                </a:spcBef>
                <a:spcAft>
                  <a:spcPts val="1349"/>
                </a:spcAft>
                <a:buClr>
                  <a:srgbClr val="00ae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Semi-interquartile Range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48480" y="2413080"/>
              <a:ext cx="1599840" cy="1392480"/>
              <a:chOff x="6648480" y="2413080"/>
              <a:chExt cx="1599840" cy="1392480"/>
            </a:xfrm>
          </p:grpSpPr>
          <p:sp>
            <p:nvSpPr>
              <p:cNvPr id="504" name=""/>
              <p:cNvSpPr/>
              <p:nvPr/>
            </p:nvSpPr>
            <p:spPr>
              <a:xfrm>
                <a:off x="7146360" y="32292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48480" y="2413080"/>
                <a:ext cx="1599840" cy="69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279f"/>
                    </a:solidFill>
                    <a:latin typeface="Arial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3</a:t>
                </a:r>
                <a:r>
                  <a:rPr b="0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279f"/>
                    </a:solidFill>
                    <a:latin typeface="Arial"/>
                  </a:rPr>
                  <a:t>– </a:t>
                </a:r>
                <a:r>
                  <a:rPr b="0" i="1" lang="en-US" sz="3600" spc="-1" strike="noStrike">
                    <a:solidFill>
                      <a:srgbClr val="00279f"/>
                    </a:solidFill>
                    <a:latin typeface="Arial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6711840" y="3111480"/>
              <a:ext cx="133344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00600" y="3632040"/>
            <a:ext cx="5464800" cy="1267200"/>
            <a:chOff x="300600" y="3632040"/>
            <a:chExt cx="5464800" cy="1267200"/>
          </a:xfrm>
        </p:grpSpPr>
        <p:sp>
          <p:nvSpPr>
            <p:cNvPr id="508" name=""/>
            <p:cNvSpPr/>
            <p:nvPr/>
          </p:nvSpPr>
          <p:spPr>
            <a:xfrm>
              <a:off x="300600" y="3828960"/>
              <a:ext cx="331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buClr>
                  <a:srgbClr val="00ae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Midquartile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153320" y="3632040"/>
              <a:ext cx="1612080" cy="1267200"/>
              <a:chOff x="4153320" y="3632040"/>
              <a:chExt cx="1612080" cy="12672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4153320" y="3632040"/>
                <a:ext cx="1612080" cy="1267200"/>
                <a:chOff x="4153320" y="3632040"/>
                <a:chExt cx="1612080" cy="12672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651200" y="4322880"/>
                  <a:ext cx="4071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53320" y="3632040"/>
                  <a:ext cx="161208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r>
                    <a:rPr b="0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 </a:t>
                  </a:r>
                  <a:r>
                    <a:rPr b="0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+ </a:t>
                  </a:r>
                  <a:r>
                    <a:rPr b="0" i="1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4216320" y="4292640"/>
                <a:ext cx="1467000" cy="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507960" y="216000"/>
            <a:ext cx="8107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ome Other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or a set of data,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5-number summ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onsists of the minimum value; the first quartile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the median (or second quartile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); the third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and the maximum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323640" y="171360"/>
            <a:ext cx="85150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5-Number Summary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7920" indent="-547920">
              <a:lnSpc>
                <a:spcPct val="100000"/>
              </a:lnSpc>
              <a:spcBef>
                <a:spcPts val="13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oxpl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ox-and-whisker-diagram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) is a graph of a data set that consists of a line extending from the minimum value to the maximum value, and a box with lines drawn at the first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the median; and the third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3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323640" y="171360"/>
            <a:ext cx="85150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77400" y="1648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825480" y="2152800"/>
            <a:ext cx="7493040" cy="25524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941760" y="5232240"/>
            <a:ext cx="477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plot of Movie Budget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 - Normal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77800" y="2597040"/>
            <a:ext cx="7988400" cy="1663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49440" y="5232240"/>
            <a:ext cx="7600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s from a Simple Random Sample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4280" y="164880"/>
            <a:ext cx="797544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 - Skewed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1520" y="2711520"/>
            <a:ext cx="7860960" cy="1434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58640" y="5232240"/>
            <a:ext cx="843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 (in thousands of dollars) of NCAA Football C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263520"/>
            <a:ext cx="8293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2038320"/>
            <a:ext cx="82152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racteristics of center. Measures of center, including mean and median, as tools for analyzing data. Not only determine the value of each measure of center, but also interpret thos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utliers and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Modified Boxplo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83960"/>
            <a:ext cx="8515080" cy="82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utlier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5800" y="2228400"/>
            <a:ext cx="8578800" cy="14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utlier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a value that lies very far away from the vast majority of the other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lues in a data s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165240"/>
            <a:ext cx="851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mportant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7680" y="2095560"/>
            <a:ext cx="8553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7280" y="1692360"/>
            <a:ext cx="8343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standard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scale of the histogram so that the true nature of the distribution is totally obsc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04920" y="165240"/>
            <a:ext cx="851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utliers for Modified Box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7680" y="2095560"/>
            <a:ext cx="8553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6520" y="1273320"/>
            <a:ext cx="8343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purposes of constructing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modified boxplot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e can consider outliers to be data values meeting specific cri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6520" y="3165480"/>
            <a:ext cx="8343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 modified boxplots, a data value is an outlier if it is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11360" y="4257720"/>
            <a:ext cx="6210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v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by an amount greater than 1.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11360" y="5502240"/>
            <a:ext cx="6210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elow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by an amount greater than 1.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7960" y="5070600"/>
            <a:ext cx="5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2960" y="1648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2040" y="1319040"/>
            <a:ext cx="78105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oxplots described earlier are call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keletal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or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gula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) boxpl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me statistical packages provid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dified boxplot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which represent outliers as special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37920" y="177480"/>
            <a:ext cx="78325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 Construc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4880" y="2454120"/>
            <a:ext cx="79106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 special symbol (such as an asterisk) is used to identify out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solid horizontal line extends only as far as the minimum data value that is not an outlier and the maximum data value that is not an out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4880" y="1209600"/>
            <a:ext cx="79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 modified boxplot is constructed with these specif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77400" y="1774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s - Exampl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1360" y="1143000"/>
            <a:ext cx="7823160" cy="37591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81200" y="5248440"/>
            <a:ext cx="79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se rates of females listed in Data Set 1 in Appendix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04800" y="254160"/>
            <a:ext cx="7934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1800" y="9270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section we have discu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1800" y="14652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1800" y="20034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s and unusu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1800" y="30798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Quar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1800" y="25416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ercen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1800" y="3618000"/>
            <a:ext cx="81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verting a percentile to corresponding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1800" y="458316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ther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1800" y="6111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ffects of 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1800" y="512136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5-number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1800" y="5616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oxplots and modified box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04800" y="254160"/>
            <a:ext cx="7934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utt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8120" y="927000"/>
            <a:ext cx="84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lways consider certain key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1800" y="14652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text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1800" y="19908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ourc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1800" y="304164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1800" y="251604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ampl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1800" y="3567240"/>
            <a:ext cx="81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1800" y="461952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1800" y="6111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actical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1800" y="51451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nging patter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56275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1800" y="409428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Concepts of Measures of Cen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09:06:01Z</dcterms:created>
  <dc:creator>Marty Triola</dc:creator>
  <dc:description/>
  <cp:keywords/>
  <dc:language>en-US</dc:language>
  <cp:lastModifiedBy>ustavch</cp:lastModifiedBy>
  <cp:lastPrinted>2000-05-17T01:18:40Z</cp:lastPrinted>
  <dcterms:modified xsi:type="dcterms:W3CDTF">2009-04-16T20:45:16Z</dcterms:modified>
  <cp:revision>430</cp:revision>
  <dc:subject>Statistics for Describing, Exploring, and Comparing Data</dc:subject>
  <dc:title>Chapter 3</dc:title>
</cp:coreProperties>
</file>